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C01-21DA-40E5-8435-342F7166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134-F24F-424D-8D77-67036A9F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224-0B1E-466C-9199-02A03E21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3F2-AD72-4949-9505-F029DB8E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6570-F6FB-4B54-89C5-01AB1D7D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E932-F394-4227-8B19-C7D91691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3E5A-770F-4E7A-BAC5-12203095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6DF4-C41A-494D-97F9-4442AED5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9D7C-8E74-4293-9234-42E062AC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CB6A-2BEA-45C1-956E-0B5FEDF4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53B7-874C-435A-ABF7-BE3CAB39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F18-F74C-4B56-BCBC-B10340B9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E647-4132-4B55-87BF-53BA1B0C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BA0D-7A81-40BD-90D8-934666A4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E71B-3F78-4A86-AD1C-0BF7ABD3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1F11-9FBA-4F42-B9F3-6FB57637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2E52-CCDA-4C92-A435-7E3EB3AC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3D5-0980-4FD7-9F42-FF9A2233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506-7BDA-4A1F-91E6-89DD5E99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409-2E67-4FA0-910D-7DD88639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52D-2FB0-4DF9-9B9D-91C96B8F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046-749A-4ADF-BE35-123CCD3F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201-B6EE-47FD-A391-5239FBBB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8B9-D6D3-4327-BC48-6254EE7A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9D1F-C565-4722-AAA8-AE300B6ABA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35D3-1652-4969-8AE9-3F977CC7C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ject 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ny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er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-level overview of progress against schedu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-track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hind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head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expected delays or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lated Docume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pl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 mor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mit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ject Go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ltimate goal of pro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ionship to other pro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-level timing 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scrip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be the project in non-technical ter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ollowing slides for discussing status, schedules, budget, et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specification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etitive Analys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itor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You may want to allocate one slide per competito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ngth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strengths relative to competi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weaknesses relative to competi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etitive Analysis, Cont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i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ngth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competitive analysis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technology being us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s being adop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s specifically being ignor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awbacks &amp; 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A: define your acronyms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am/Resour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 assumptions about resources allocated to this pro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 &amp; outsid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ufactur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cedu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light any procedural differences from regular projects of this ty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 requirements, benefits, and issues of using new proced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procedures document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iew high-level schedule milestones 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detailed schedule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72320" y="3352680"/>
            <a:ext cx="6476040" cy="1577160"/>
            <a:chOff x="1372320" y="3352680"/>
            <a:chExt cx="6476040" cy="1577160"/>
          </a:xfrm>
        </p:grpSpPr>
        <p:grpSp>
          <p:nvGrpSpPr>
            <p:cNvPr id="116" name=""/>
            <p:cNvGrpSpPr/>
            <p:nvPr/>
          </p:nvGrpSpPr>
          <p:grpSpPr>
            <a:xfrm>
              <a:off x="1372320" y="4267080"/>
              <a:ext cx="6476040" cy="662760"/>
              <a:chOff x="1372320" y="4267080"/>
              <a:chExt cx="6476040" cy="662760"/>
            </a:xfrm>
          </p:grpSpPr>
          <p:sp>
            <p:nvSpPr>
              <p:cNvPr id="117" name=""/>
              <p:cNvSpPr/>
              <p:nvPr/>
            </p:nvSpPr>
            <p:spPr>
              <a:xfrm>
                <a:off x="1447560" y="4267080"/>
                <a:ext cx="6400800" cy="486000"/>
              </a:xfrm>
              <a:prstGeom prst="rightArrow">
                <a:avLst>
                  <a:gd name="adj1" fmla="val 36602"/>
                  <a:gd name="adj2" fmla="val 54145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2320" y="46227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a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99720" y="46227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59880" y="4622760"/>
                <a:ext cx="49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56040" y="46227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p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26640" y="4622760"/>
                <a:ext cx="52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57000" y="46227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u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94480" y="4622760"/>
                <a:ext cx="537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ul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90640" y="462276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950440" y="462276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O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00520" y="462276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Nov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106760" y="462276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e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523880" y="3352680"/>
              <a:ext cx="2438280" cy="15264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62160" y="3657600"/>
              <a:ext cx="1905120" cy="15228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280" y="3962520"/>
              <a:ext cx="1676520" cy="15228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7:24:05Z</dcterms:created>
  <dc:creator>student1</dc:creator>
  <dc:description>This is my project presentation</dc:description>
  <cp:keywords>project </cp:keywords>
  <dc:language>en-US</dc:language>
  <cp:lastModifiedBy>jgaron</cp:lastModifiedBy>
  <dcterms:modified xsi:type="dcterms:W3CDTF">2007-07-27T17:26:01Z</dcterms:modified>
  <cp:revision>2</cp:revision>
  <dc:subject>My Project Overview</dc:subject>
  <dc:title>Project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